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C89-081F-41E8-9E18-B3B94523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245-362F-4965-BEAB-355EE478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969-5D9C-4491-AE6F-C320E45B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580-B8C2-4D72-8F19-D891E677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45B-37EF-475D-AE99-081FB90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DC2-A27A-4956-ACF9-64351D1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EF3-FD43-447C-89C1-67EDE7C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097-CE8A-43FC-8D68-910337E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CF4-04BA-45A5-9DFE-2B58CE9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389-2912-492C-97F4-C81515F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C41-AA57-4D30-A86E-A22A534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D97-B8E3-456C-9BDA-4EB0B44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A8EC-C2FA-42FC-B6EC-16D701E66004}" type="slidenum">
              <a:rPr b="0" lang="ru-RU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8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900000" y="1557360"/>
            <a:ext cx="7417080" cy="1434600"/>
          </a:xfrm>
          <a:prstGeom prst="rect">
            <a:avLst/>
          </a:prstGeom>
          <a:noFill/>
          <a:ln w="0">
            <a:noFill/>
          </a:ln>
          <a:effectLst>
            <a:outerShdw dist="71785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исхождение фамилии моей мамы -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356000" y="3933720"/>
            <a:ext cx="4716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итина Анастасия, ученица 3 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итина Ольг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лукова Нонн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611280" y="414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ые варианты происхождения фамилии -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5929200" y="178596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429000" y="3857760"/>
            <a:ext cx="2340000" cy="1800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700360" y="404640"/>
            <a:ext cx="3529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3.88889E-006 0.29722 E">
                                      <p:cBhvr>
                                        <p:cTn id="31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L 1.11111E-006 0.29722 E">
                                      <p:cBhvr>
                                        <p:cTn id="31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045E-016 L -1.38889E-006 -0.29884 E">
                                      <p:cBhvr>
                                        <p:cTn id="32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3357720"/>
            <a:ext cx="2471760" cy="233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18412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5786280" y="4143240"/>
            <a:ext cx="2132280" cy="242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2428920" cy="2027160"/>
          </a:xfrm>
          <a:prstGeom prst="rect">
            <a:avLst/>
          </a:prstGeom>
          <a:ln w="0">
            <a:noFill/>
          </a:ln>
        </p:spPr>
      </p:pic>
      <p:sp>
        <p:nvSpPr>
          <p:cNvPr id="111" name="Заголовок 1"/>
          <p:cNvSpPr/>
          <p:nvPr/>
        </p:nvSpPr>
        <p:spPr>
          <a:xfrm>
            <a:off x="611280" y="333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енеалогия рода «Ту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417840" y="286560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5929200" y="285768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928800" y="2857680"/>
            <a:ext cx="234000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15" name="Прямоугольник 7"/>
          <p:cNvGrpSpPr/>
          <p:nvPr/>
        </p:nvGrpSpPr>
        <p:grpSpPr>
          <a:xfrm>
            <a:off x="7077240" y="1487520"/>
            <a:ext cx="2122200" cy="834840"/>
            <a:chOff x="7077240" y="1487520"/>
            <a:chExt cx="2122200" cy="834840"/>
          </a:xfrm>
        </p:grpSpPr>
        <p:pic>
          <p:nvPicPr>
            <p:cNvPr id="116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7077240" y="1487520"/>
              <a:ext cx="2122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358040" y="1643040"/>
              <a:ext cx="1643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993,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Прямоугольник 8"/>
          <p:cNvGrpSpPr/>
          <p:nvPr/>
        </p:nvGrpSpPr>
        <p:grpSpPr>
          <a:xfrm>
            <a:off x="7077240" y="2200320"/>
            <a:ext cx="2122200" cy="1195200"/>
            <a:chOff x="7077240" y="2200320"/>
            <a:chExt cx="2122200" cy="1195200"/>
          </a:xfrm>
        </p:grpSpPr>
        <p:pic>
          <p:nvPicPr>
            <p:cNvPr id="119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7077240" y="2200320"/>
              <a:ext cx="21222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358040" y="2357280"/>
              <a:ext cx="1643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978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9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Прямоугольник 9"/>
          <p:cNvGrpSpPr/>
          <p:nvPr/>
        </p:nvGrpSpPr>
        <p:grpSpPr>
          <a:xfrm>
            <a:off x="7077240" y="3273480"/>
            <a:ext cx="2122200" cy="804960"/>
            <a:chOff x="7077240" y="3273480"/>
            <a:chExt cx="2122200" cy="804960"/>
          </a:xfrm>
        </p:grpSpPr>
        <p:pic>
          <p:nvPicPr>
            <p:cNvPr id="122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7077240" y="3273480"/>
              <a:ext cx="2122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358040" y="3429000"/>
              <a:ext cx="16430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956, 19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Прямоугольник 10"/>
          <p:cNvGrpSpPr/>
          <p:nvPr/>
        </p:nvGrpSpPr>
        <p:grpSpPr>
          <a:xfrm>
            <a:off x="7004160" y="3986280"/>
            <a:ext cx="2120760" cy="804960"/>
            <a:chOff x="7004160" y="3986280"/>
            <a:chExt cx="2120760" cy="80496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7004160" y="3986280"/>
              <a:ext cx="2120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286760" y="4143240"/>
              <a:ext cx="16430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927, 19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7004160" y="4675320"/>
            <a:ext cx="2120760" cy="804600"/>
            <a:chOff x="7004160" y="4675320"/>
            <a:chExt cx="2120760" cy="80460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004160" y="4675320"/>
              <a:ext cx="2120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286760" y="4832280"/>
              <a:ext cx="16430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90, 18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6"/>
          <p:cNvGrpSpPr/>
          <p:nvPr/>
        </p:nvGrpSpPr>
        <p:grpSpPr>
          <a:xfrm>
            <a:off x="7004160" y="5315040"/>
            <a:ext cx="2120760" cy="804600"/>
            <a:chOff x="7004160" y="5315040"/>
            <a:chExt cx="2120760" cy="804600"/>
          </a:xfrm>
        </p:grpSpPr>
        <p:pic>
          <p:nvPicPr>
            <p:cNvPr id="131" name="Прямоугольник 16" descr=""/>
            <p:cNvPicPr/>
            <p:nvPr/>
          </p:nvPicPr>
          <p:blipFill>
            <a:blip r:embed="rId9"/>
            <a:stretch/>
          </p:blipFill>
          <p:spPr>
            <a:xfrm>
              <a:off x="7004160" y="5315040"/>
              <a:ext cx="2120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286760" y="5475240"/>
              <a:ext cx="16430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19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Прямоугольник 17"/>
          <p:cNvGrpSpPr/>
          <p:nvPr/>
        </p:nvGrpSpPr>
        <p:grpSpPr>
          <a:xfrm>
            <a:off x="7004160" y="5913360"/>
            <a:ext cx="2120760" cy="804960"/>
            <a:chOff x="7004160" y="5913360"/>
            <a:chExt cx="2120760" cy="804960"/>
          </a:xfrm>
        </p:grpSpPr>
        <p:pic>
          <p:nvPicPr>
            <p:cNvPr id="134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7004160" y="5913360"/>
              <a:ext cx="2120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286760" y="6072120"/>
              <a:ext cx="16430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трелка вверх 18"/>
          <p:cNvSpPr/>
          <p:nvPr/>
        </p:nvSpPr>
        <p:spPr>
          <a:xfrm>
            <a:off x="3571920" y="585792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19"/>
          <p:cNvSpPr/>
          <p:nvPr/>
        </p:nvSpPr>
        <p:spPr>
          <a:xfrm>
            <a:off x="3571920" y="521496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верх 20"/>
          <p:cNvSpPr/>
          <p:nvPr/>
        </p:nvSpPr>
        <p:spPr>
          <a:xfrm>
            <a:off x="3571920" y="457200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верх 21"/>
          <p:cNvSpPr/>
          <p:nvPr/>
        </p:nvSpPr>
        <p:spPr>
          <a:xfrm>
            <a:off x="3571920" y="378612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верх 22"/>
          <p:cNvSpPr/>
          <p:nvPr/>
        </p:nvSpPr>
        <p:spPr>
          <a:xfrm>
            <a:off x="3571920" y="314316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верх 23"/>
          <p:cNvSpPr/>
          <p:nvPr/>
        </p:nvSpPr>
        <p:spPr>
          <a:xfrm>
            <a:off x="2643120" y="200016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24"/>
          <p:cNvSpPr/>
          <p:nvPr/>
        </p:nvSpPr>
        <p:spPr>
          <a:xfrm>
            <a:off x="4786200" y="2000160"/>
            <a:ext cx="28584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рямоугольник 25"/>
          <p:cNvGrpSpPr/>
          <p:nvPr/>
        </p:nvGrpSpPr>
        <p:grpSpPr>
          <a:xfrm>
            <a:off x="3627360" y="1487520"/>
            <a:ext cx="2786040" cy="804960"/>
            <a:chOff x="3627360" y="1487520"/>
            <a:chExt cx="2786040" cy="804960"/>
          </a:xfrm>
        </p:grpSpPr>
        <p:pic>
          <p:nvPicPr>
            <p:cNvPr id="144" name="Прямоугольник 25" descr=""/>
            <p:cNvPicPr/>
            <p:nvPr/>
          </p:nvPicPr>
          <p:blipFill>
            <a:blip r:embed="rId11"/>
            <a:stretch/>
          </p:blipFill>
          <p:spPr>
            <a:xfrm>
              <a:off x="3627360" y="1487520"/>
              <a:ext cx="27860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929040" y="1643040"/>
              <a:ext cx="2286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икитина Ма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26"/>
          <p:cNvGrpSpPr/>
          <p:nvPr/>
        </p:nvGrpSpPr>
        <p:grpSpPr>
          <a:xfrm>
            <a:off x="1054080" y="1487520"/>
            <a:ext cx="2852640" cy="804960"/>
            <a:chOff x="1054080" y="1487520"/>
            <a:chExt cx="2852640" cy="804960"/>
          </a:xfrm>
        </p:grpSpPr>
        <p:pic>
          <p:nvPicPr>
            <p:cNvPr id="147" name="Прямоугольник 26" descr=""/>
            <p:cNvPicPr/>
            <p:nvPr/>
          </p:nvPicPr>
          <p:blipFill>
            <a:blip r:embed="rId12"/>
            <a:stretch/>
          </p:blipFill>
          <p:spPr>
            <a:xfrm>
              <a:off x="1054080" y="1487520"/>
              <a:ext cx="28526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357200" y="1643040"/>
              <a:ext cx="23529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икитина Наст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27"/>
          <p:cNvGrpSpPr/>
          <p:nvPr/>
        </p:nvGrpSpPr>
        <p:grpSpPr>
          <a:xfrm>
            <a:off x="822240" y="2200320"/>
            <a:ext cx="5730840" cy="1195200"/>
            <a:chOff x="822240" y="2200320"/>
            <a:chExt cx="5730840" cy="1195200"/>
          </a:xfrm>
        </p:grpSpPr>
        <p:pic>
          <p:nvPicPr>
            <p:cNvPr id="150" name="Прямоугольник 27" descr=""/>
            <p:cNvPicPr/>
            <p:nvPr/>
          </p:nvPicPr>
          <p:blipFill>
            <a:blip r:embed="rId13"/>
            <a:stretch/>
          </p:blipFill>
          <p:spPr>
            <a:xfrm>
              <a:off x="822240" y="2200320"/>
              <a:ext cx="5730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14280" y="2357280"/>
              <a:ext cx="5143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икитина (Тур) Ольга Владимировна Никитин Александр Вячеславови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28"/>
          <p:cNvGrpSpPr/>
          <p:nvPr/>
        </p:nvGrpSpPr>
        <p:grpSpPr>
          <a:xfrm>
            <a:off x="-6480" y="3273480"/>
            <a:ext cx="7272360" cy="804960"/>
            <a:chOff x="-6480" y="3273480"/>
            <a:chExt cx="7272360" cy="804960"/>
          </a:xfrm>
        </p:grpSpPr>
        <p:pic>
          <p:nvPicPr>
            <p:cNvPr id="153" name="Прямоугольник 28" descr=""/>
            <p:cNvPicPr/>
            <p:nvPr/>
          </p:nvPicPr>
          <p:blipFill>
            <a:blip r:embed="rId14"/>
            <a:stretch/>
          </p:blipFill>
          <p:spPr>
            <a:xfrm>
              <a:off x="-6480" y="3273480"/>
              <a:ext cx="7272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28760" y="3429000"/>
              <a:ext cx="66434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ур Владимир Федорович   Тур Тамара Иван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Прямоугольник 29"/>
          <p:cNvGrpSpPr/>
          <p:nvPr/>
        </p:nvGrpSpPr>
        <p:grpSpPr>
          <a:xfrm>
            <a:off x="122400" y="3986280"/>
            <a:ext cx="7070400" cy="804960"/>
            <a:chOff x="122400" y="3986280"/>
            <a:chExt cx="7070400" cy="804960"/>
          </a:xfrm>
        </p:grpSpPr>
        <p:pic>
          <p:nvPicPr>
            <p:cNvPr id="156" name="Прямоугольник 29" descr=""/>
            <p:cNvPicPr/>
            <p:nvPr/>
          </p:nvPicPr>
          <p:blipFill>
            <a:blip r:embed="rId15"/>
            <a:stretch/>
          </p:blipFill>
          <p:spPr>
            <a:xfrm>
              <a:off x="122400" y="3986280"/>
              <a:ext cx="70704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7560" y="4143240"/>
              <a:ext cx="6453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ур Федор Павлович   Тур Александра Иван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Прямоугольник 30"/>
          <p:cNvGrpSpPr/>
          <p:nvPr/>
        </p:nvGrpSpPr>
        <p:grpSpPr>
          <a:xfrm>
            <a:off x="371520" y="4675320"/>
            <a:ext cx="6669000" cy="804600"/>
            <a:chOff x="371520" y="4675320"/>
            <a:chExt cx="6669000" cy="804600"/>
          </a:xfrm>
        </p:grpSpPr>
        <p:pic>
          <p:nvPicPr>
            <p:cNvPr id="159" name="Прямоугольник 30" descr=""/>
            <p:cNvPicPr/>
            <p:nvPr/>
          </p:nvPicPr>
          <p:blipFill>
            <a:blip r:embed="rId16"/>
            <a:stretch/>
          </p:blipFill>
          <p:spPr>
            <a:xfrm>
              <a:off x="371520" y="4675320"/>
              <a:ext cx="66690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85880" y="4832280"/>
              <a:ext cx="60595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ур Павел Степанович   Тур Ульяна Марк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Прямоугольник 31"/>
          <p:cNvGrpSpPr/>
          <p:nvPr/>
        </p:nvGrpSpPr>
        <p:grpSpPr>
          <a:xfrm>
            <a:off x="2266920" y="5315040"/>
            <a:ext cx="2944800" cy="804600"/>
            <a:chOff x="2266920" y="5315040"/>
            <a:chExt cx="2944800" cy="804600"/>
          </a:xfrm>
        </p:grpSpPr>
        <p:pic>
          <p:nvPicPr>
            <p:cNvPr id="162" name="Прямоугольник 31" descr=""/>
            <p:cNvPicPr/>
            <p:nvPr/>
          </p:nvPicPr>
          <p:blipFill>
            <a:blip r:embed="rId17"/>
            <a:stretch/>
          </p:blipFill>
          <p:spPr>
            <a:xfrm>
              <a:off x="2266920" y="5315040"/>
              <a:ext cx="29448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71840" y="5475240"/>
              <a:ext cx="244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азак дед Степ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Прямоугольник 32"/>
          <p:cNvGrpSpPr/>
          <p:nvPr/>
        </p:nvGrpSpPr>
        <p:grpSpPr>
          <a:xfrm>
            <a:off x="749160" y="5950080"/>
            <a:ext cx="5864400" cy="804600"/>
            <a:chOff x="749160" y="5950080"/>
            <a:chExt cx="5864400" cy="804600"/>
          </a:xfrm>
        </p:grpSpPr>
        <p:pic>
          <p:nvPicPr>
            <p:cNvPr id="165" name="Прямоугольник 32" descr=""/>
            <p:cNvPicPr/>
            <p:nvPr/>
          </p:nvPicPr>
          <p:blipFill>
            <a:blip r:embed="rId18"/>
            <a:stretch/>
          </p:blipFill>
          <p:spPr>
            <a:xfrm>
              <a:off x="749160" y="5950080"/>
              <a:ext cx="5864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43000" y="6105600"/>
              <a:ext cx="52783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лененный турок     Кубанская каза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Заголовок 1"/>
          <p:cNvSpPr/>
          <p:nvPr/>
        </p:nvSpPr>
        <p:spPr>
          <a:xfrm>
            <a:off x="611280" y="333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енеалогия рода «Ту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точно узнать, что значит фамилия, необходимо изучить историю семьи, откуда она произошла.  Только на основании этих данных можно получить более менее правдивый результ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7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5"/>
          <p:cNvSpPr/>
          <p:nvPr/>
        </p:nvSpPr>
        <p:spPr>
          <a:xfrm>
            <a:off x="4857840" y="1500120"/>
            <a:ext cx="3786120" cy="421488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5" descr=""/>
          <p:cNvPicPr/>
          <p:nvPr/>
        </p:nvPicPr>
        <p:blipFill>
          <a:blip r:embed="rId1"/>
          <a:stretch/>
        </p:blipFill>
        <p:spPr>
          <a:xfrm>
            <a:off x="4827600" y="2798640"/>
            <a:ext cx="3736800" cy="1438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2"/>
          <a:stretch/>
        </p:blipFill>
        <p:spPr>
          <a:xfrm>
            <a:off x="4827600" y="4157640"/>
            <a:ext cx="3736800" cy="15048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4827600" y="1517760"/>
            <a:ext cx="3736800" cy="135864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право 24"/>
          <p:cNvSpPr/>
          <p:nvPr/>
        </p:nvSpPr>
        <p:spPr>
          <a:xfrm flipV="1" rot="19810800">
            <a:off x="2250720" y="3153240"/>
            <a:ext cx="1555920" cy="3636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25"/>
          <p:cNvSpPr/>
          <p:nvPr/>
        </p:nvSpPr>
        <p:spPr>
          <a:xfrm rot="1545600">
            <a:off x="2062080" y="3579480"/>
            <a:ext cx="1763640" cy="3603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26"/>
          <p:cNvSpPr/>
          <p:nvPr/>
        </p:nvSpPr>
        <p:spPr>
          <a:xfrm>
            <a:off x="2301840" y="3357720"/>
            <a:ext cx="1555920" cy="407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455760" y="2814480"/>
            <a:ext cx="3429000" cy="157176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4"/>
          <a:stretch/>
        </p:blipFill>
        <p:spPr>
          <a:xfrm>
            <a:off x="487440" y="2889360"/>
            <a:ext cx="346860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59259E-006 L 0.15295 -0.11227 E"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3246 0.00023 E">
                                      <p:cBhvr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5347 0.12917 E">
                                      <p:cBhvr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:\DCIM\100SSCAM\SL371833.JPG"/>
          <p:cNvPicPr/>
          <p:nvPr/>
        </p:nvPicPr>
        <p:blipFill>
          <a:blip r:embed="rId1"/>
          <a:stretch/>
        </p:blipFill>
        <p:spPr>
          <a:xfrm>
            <a:off x="1643040" y="2143080"/>
            <a:ext cx="5843520" cy="4383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 урок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кружающ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484520" y="1714680"/>
            <a:ext cx="4430880" cy="478620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4511520" y="1731960"/>
            <a:ext cx="43084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4511520" y="2938320"/>
            <a:ext cx="4308480" cy="1225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6" descr=""/>
          <p:cNvPicPr/>
          <p:nvPr/>
        </p:nvPicPr>
        <p:blipFill>
          <a:blip r:embed="rId3"/>
          <a:stretch/>
        </p:blipFill>
        <p:spPr>
          <a:xfrm>
            <a:off x="4511520" y="4078440"/>
            <a:ext cx="4308480" cy="1231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4"/>
          <a:stretch/>
        </p:blipFill>
        <p:spPr>
          <a:xfrm>
            <a:off x="4511520" y="5230800"/>
            <a:ext cx="4419720" cy="123048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13"/>
          <p:cNvSpPr/>
          <p:nvPr/>
        </p:nvSpPr>
        <p:spPr>
          <a:xfrm flipV="1" rot="19362000">
            <a:off x="2060280" y="3865320"/>
            <a:ext cx="1800000" cy="36000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8"/>
          <p:cNvSpPr/>
          <p:nvPr/>
        </p:nvSpPr>
        <p:spPr>
          <a:xfrm flipV="1" rot="20627400">
            <a:off x="2233440" y="3943800"/>
            <a:ext cx="1557360" cy="36324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9"/>
          <p:cNvSpPr/>
          <p:nvPr/>
        </p:nvSpPr>
        <p:spPr>
          <a:xfrm rot="2640000">
            <a:off x="2230200" y="3938760"/>
            <a:ext cx="1800000" cy="360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14"/>
          <p:cNvSpPr/>
          <p:nvPr/>
        </p:nvSpPr>
        <p:spPr>
          <a:xfrm rot="1096200">
            <a:off x="2287080" y="4052520"/>
            <a:ext cx="154800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876240" y="3419640"/>
            <a:ext cx="2927520" cy="131580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2" descr=""/>
          <p:cNvPicPr/>
          <p:nvPr/>
        </p:nvPicPr>
        <p:blipFill>
          <a:blip r:embed="rId5"/>
          <a:stretch/>
        </p:blipFill>
        <p:spPr>
          <a:xfrm>
            <a:off x="920880" y="3511440"/>
            <a:ext cx="2822400" cy="115740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36994E-006 L 0.12101 -0.12879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763E-006 L 0.11545 -0.04578 E">
                                      <p:cBhvr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8.67052E-007 L 0.11007 0.04324 E">
                                      <p:cBhvr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6821E-006 L 0.11042 0.13341 E">
                                      <p:cBhvr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000080" y="3022560"/>
            <a:ext cx="6615000" cy="34783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3"/>
          <a:stretch/>
        </p:blipFill>
        <p:spPr>
          <a:xfrm>
            <a:off x="573120" y="1627200"/>
            <a:ext cx="7937640" cy="13287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11280" y="414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лиз происхождения фамилий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500040" y="1857240"/>
            <a:ext cx="7929720" cy="85752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4" descr=""/>
          <p:cNvPicPr/>
          <p:nvPr/>
        </p:nvPicPr>
        <p:blipFill>
          <a:blip r:embed="rId1"/>
          <a:stretch/>
        </p:blipFill>
        <p:spPr>
          <a:xfrm>
            <a:off x="444600" y="1932120"/>
            <a:ext cx="7894440" cy="701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2"/>
          <a:stretch/>
        </p:blipFill>
        <p:spPr>
          <a:xfrm>
            <a:off x="4541760" y="1951200"/>
            <a:ext cx="3681360" cy="695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500040" y="2816280"/>
            <a:ext cx="7929720" cy="85716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7" descr=""/>
          <p:cNvPicPr/>
          <p:nvPr/>
        </p:nvPicPr>
        <p:blipFill>
          <a:blip r:embed="rId3"/>
          <a:stretch/>
        </p:blipFill>
        <p:spPr>
          <a:xfrm>
            <a:off x="444600" y="2876400"/>
            <a:ext cx="7894440" cy="702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8" descr=""/>
          <p:cNvPicPr/>
          <p:nvPr/>
        </p:nvPicPr>
        <p:blipFill>
          <a:blip r:embed="rId4"/>
          <a:stretch/>
        </p:blipFill>
        <p:spPr>
          <a:xfrm>
            <a:off x="4541760" y="2889360"/>
            <a:ext cx="3681360" cy="695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500040" y="3755880"/>
            <a:ext cx="7929720" cy="85752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0" descr=""/>
          <p:cNvPicPr/>
          <p:nvPr/>
        </p:nvPicPr>
        <p:blipFill>
          <a:blip r:embed="rId5"/>
          <a:stretch/>
        </p:blipFill>
        <p:spPr>
          <a:xfrm>
            <a:off x="444600" y="3816360"/>
            <a:ext cx="7894440" cy="7002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1" descr=""/>
          <p:cNvPicPr/>
          <p:nvPr/>
        </p:nvPicPr>
        <p:blipFill>
          <a:blip r:embed="rId6"/>
          <a:stretch/>
        </p:blipFill>
        <p:spPr>
          <a:xfrm>
            <a:off x="4541760" y="3816360"/>
            <a:ext cx="3700440" cy="6951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500040" y="4714920"/>
            <a:ext cx="7929720" cy="85716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13" descr=""/>
          <p:cNvPicPr/>
          <p:nvPr/>
        </p:nvPicPr>
        <p:blipFill>
          <a:blip r:embed="rId7"/>
          <a:stretch/>
        </p:blipFill>
        <p:spPr>
          <a:xfrm>
            <a:off x="444600" y="4748040"/>
            <a:ext cx="7894440" cy="702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4" descr=""/>
          <p:cNvPicPr/>
          <p:nvPr/>
        </p:nvPicPr>
        <p:blipFill>
          <a:blip r:embed="rId8"/>
          <a:stretch/>
        </p:blipFill>
        <p:spPr>
          <a:xfrm>
            <a:off x="4614840" y="4767120"/>
            <a:ext cx="3675240" cy="6890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5"/>
          <p:cNvSpPr/>
          <p:nvPr/>
        </p:nvSpPr>
        <p:spPr>
          <a:xfrm>
            <a:off x="500040" y="5643720"/>
            <a:ext cx="7929720" cy="85716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16" descr=""/>
          <p:cNvPicPr/>
          <p:nvPr/>
        </p:nvPicPr>
        <p:blipFill>
          <a:blip r:embed="rId9"/>
          <a:stretch/>
        </p:blipFill>
        <p:spPr>
          <a:xfrm>
            <a:off x="444600" y="5735520"/>
            <a:ext cx="7827840" cy="7016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7" descr=""/>
          <p:cNvPicPr/>
          <p:nvPr/>
        </p:nvPicPr>
        <p:blipFill>
          <a:blip r:embed="rId10"/>
          <a:stretch/>
        </p:blipFill>
        <p:spPr>
          <a:xfrm>
            <a:off x="4614840" y="5735520"/>
            <a:ext cx="3675240" cy="69552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1"/>
          <p:cNvSpPr/>
          <p:nvPr/>
        </p:nvSpPr>
        <p:spPr>
          <a:xfrm>
            <a:off x="611280" y="34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лиз происхождения фамилий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2841840" cy="45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2148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429000" y="2071800"/>
            <a:ext cx="5040360" cy="37116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7" descr=""/>
          <p:cNvPicPr/>
          <p:nvPr/>
        </p:nvPicPr>
        <p:blipFill>
          <a:blip r:embed="rId3"/>
          <a:stretch/>
        </p:blipFill>
        <p:spPr>
          <a:xfrm>
            <a:off x="262080" y="2382840"/>
            <a:ext cx="3004920" cy="3438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11280" y="414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кование слова «Ту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353880" y="1596960"/>
            <a:ext cx="3078360" cy="453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532320" y="2071800"/>
            <a:ext cx="5040360" cy="38574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6" descr=""/>
          <p:cNvPicPr/>
          <p:nvPr/>
        </p:nvPicPr>
        <p:blipFill>
          <a:blip r:embed="rId3"/>
          <a:stretch/>
        </p:blipFill>
        <p:spPr>
          <a:xfrm>
            <a:off x="328680" y="2382840"/>
            <a:ext cx="3017880" cy="343836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611280" y="414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кование слова «Ту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417840" y="2865600"/>
            <a:ext cx="2340000" cy="180000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611280" y="414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ые варианты происхождения фамилии -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5875200" y="285768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917640" y="2865600"/>
            <a:ext cx="2340000" cy="1800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1.38889E-006 -0.175 E">
                                      <p:cBhvr>
                                        <p:cTn id="29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3.88889E-006 -0.17385 E">
                                      <p:cBhvr>
                                        <p:cTn id="2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3.88889E-006 0.17153 E">
                                      <p:cBhvr>
                                        <p:cTn id="30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5:06:13Z</dcterms:created>
  <dc:creator>SPEEDxp</dc:creator>
  <dc:description/>
  <cp:keywords>Шаблон оформления</cp:keywords>
  <dc:language>en-US</dc:language>
  <cp:lastModifiedBy>Nasty</cp:lastModifiedBy>
  <dcterms:modified xsi:type="dcterms:W3CDTF">2009-02-08T15:25:44Z</dcterms:modified>
  <cp:revision>130</cp:revision>
  <dc:subject>Шаблон оформлен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5001049</vt:lpwstr>
  </property>
</Properties>
</file>